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C9E1-C8B5-471C-BE84-5E1C9F04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4BBA-F458-40AD-A508-BD0034F2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55F6-5E82-48DE-848E-68603F98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5B49-91D3-4643-A854-9FB293BA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66B0-BABC-4972-80CA-9CC63BFE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CC5E-2232-4C3F-BFBF-DF9ABD01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7142-A7FA-42CD-9D0A-76498A6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E97F-064F-4575-B168-9E2540A3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8B74-28FD-43EA-B9C8-66745CB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6EA-4739-4147-BF9C-E6A28BB2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2615-769C-4210-A033-D94B2DEF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9950-66A5-444D-A6E5-2B0E0539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85E7-B7E7-45E1-A035-E5E995F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40B8-0B40-4754-8008-C557D04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AB5C-C0FF-4F70-922C-4608E9B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7402-2A04-4709-9E27-4A739423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B30-E477-4894-A3F9-F22ECDED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A9F5-D142-46E9-B66A-48DC5287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7B79-4EF0-4734-AE65-8D67E76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06EA-18F2-4C3F-95BE-006D2FB7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3CA5-98EC-4174-B4CB-D94155AE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8DB6-6FB9-43BD-9F70-8C9CB0BD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3ACA-8E1E-4311-B9F6-C0EBA59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26DD-27AB-4649-BE9D-2CC5914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0F6-421A-4364-9AB8-299104A1112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6706-E46B-48D1-BE9B-0250A9C1FE8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691640"/>
            <a:ext cx="972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1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оя аз на йордански бря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гледам веч пред м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одината моя навек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ий рай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46520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таз земя царува свят пок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яма там смърт, нито болест, нито гря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ам ще хваля с радост Бога мой, Бога м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щитен от скръб и смъртен страх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2980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есна радост чака там Господните дец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т те в небесен хр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сияещи ли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46520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таз земя царува свят пок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яма там смърт, нито болест, нито гря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ам ще хваля с радост Бога мой, Бога м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щитен от скръб и смъртен страх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2535840"/>
            <a:ext cx="950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бъда скоро вече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лажений горний дво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 там на моя Бо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ангели във хо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46520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таз земя царува свят пок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яма там смърт, нито болест, нито гря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ам ще хваля с радост Бога мой, Бога м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щитен от скръб и смъртен страх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0T09:13:53Z</dcterms:modified>
  <cp:revision>47</cp:revision>
  <dc:subject/>
  <dc:title>Slide 1</dc:title>
</cp:coreProperties>
</file>